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306-8B6F-4D1E-9372-E53B8F10D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F93-96E0-4D04-B0C2-A3E8DE1D6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398F-52BC-4630-8B04-4D38C4D0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311C-D94B-4332-988C-7A082B3E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4D0-B623-4EA0-B29C-29315120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63CB-D030-4D16-B82E-91359D0F1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5D1-8611-49BB-B614-563E8BFB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70C8-CDD1-4DF1-A616-0A48DDFDE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BCB-F65F-43DA-A8E7-21EBE6813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3E1-A0DC-402A-895C-35FFEAFE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C080-FC6B-4221-AE51-D1FEB2256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E730-3443-4547-91B0-E4256F0B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7AF-8039-4C4E-9C63-D2DDDF98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0B94-B2DD-4E57-B4DE-FBE25656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D8B-FE2F-49D5-8489-44051514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282-8986-4705-948F-B96389D9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9F3-50AE-4475-8FEF-1786ADEE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6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2400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6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2400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FD6-F0DA-465F-87F0-E04400CD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D1D0-2AC6-4EB1-BE36-C874A73D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3320-8DF9-4368-810C-FF8B12C3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8AD8-C53E-42DC-B104-449BE470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A1D0-A703-4F98-8BB9-1A4A2589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2863-446B-4573-8496-92FCFEC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560"/>
            <a:ext cx="77691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4C52-3145-46CF-B0D9-3458ED7B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9FBF-C9C0-40A2-BD88-3B9FCA4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D10-049E-40DD-AA33-545F67B2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26F9-687B-44C5-A9D1-053A9F1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4F27-2997-452B-B498-78CC176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329-FAEA-4EED-8AAC-E910566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2B6E-04B0-4DB4-B97E-8CFDC9D8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2400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2400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FDBB-4D39-4034-9FAB-D0112876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1BE-A5E3-4791-8B8B-B6323D8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EF9-83D9-4792-8640-9AFE8CFE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1E1-0CC9-4FEC-B6F8-E1E7AEF5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560"/>
            <a:ext cx="77691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3CE-4904-47D8-9C5E-7CFB9B07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D44-5245-4C61-BA08-335144B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676-9561-4F62-B1BD-E4BDE9F8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3A5-D09E-4D15-808D-3B3DE57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30320"/>
          </a:xfrm>
          <a:prstGeom prst="rect">
            <a:avLst/>
          </a:prstGeom>
          <a:solidFill>
            <a:srgbClr val="b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2716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255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481880" y="6479640"/>
            <a:ext cx="758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919160" y="6479640"/>
            <a:ext cx="553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72440" y="6410520"/>
            <a:ext cx="6285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e00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e0022"/>
                </a:solidFill>
                <a:latin typeface="Arial"/>
              </a:rPr>
              <a:t>Page </a:t>
            </a:r>
            <a:fld id="{A4D68CB4-E20B-454A-A1AD-5A765EDEEA7D}" type="slidenum">
              <a:rPr b="0" lang="en-US" sz="900" spc="-1" strike="noStrike">
                <a:solidFill>
                  <a:srgbClr val="be002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0" y="6213600"/>
            <a:ext cx="9140760" cy="0"/>
          </a:xfrm>
          <a:prstGeom prst="line">
            <a:avLst/>
          </a:prstGeom>
          <a:ln w="12600">
            <a:solidFill>
              <a:srgbClr val="be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00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4"/>
          <p:cNvSpPr/>
          <p:nvPr/>
        </p:nvSpPr>
        <p:spPr>
          <a:xfrm>
            <a:off x="0" y="62136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2716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255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481880" y="6479640"/>
            <a:ext cx="758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919160" y="6479640"/>
            <a:ext cx="553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72440" y="6410520"/>
            <a:ext cx="6285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A3B6CF12-67A5-4D6A-99CC-C51FFE59A8F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threex.com/rup/portugues/process/itrwkfls/iwf_iwfs.htm" TargetMode="External"/><Relationship Id="rId2" Type="http://schemas.openxmlformats.org/officeDocument/2006/relationships/hyperlink" Target="http://www.wthreex.com/rup/portugues/process/itrwkfls/iwf_iwfs.htm" TargetMode="External"/><Relationship Id="rId3" Type="http://schemas.openxmlformats.org/officeDocument/2006/relationships/hyperlink" Target="http://www.wthreex.com/rup/portugues/process/itrwkfls/iwf_lit.htm" TargetMode="External"/><Relationship Id="rId4" Type="http://schemas.openxmlformats.org/officeDocument/2006/relationships/hyperlink" Target="http://www.wthreex.com/rup/portugues/process/itrwkfls/iwf_iii.htm" TargetMode="External"/><Relationship Id="rId5" Type="http://schemas.openxmlformats.org/officeDocument/2006/relationships/hyperlink" Target="http://www.wthreex.com/rup/portugues/process/itrwkfls/iwf_iwfs.htm" TargetMode="External"/><Relationship Id="rId6" Type="http://schemas.openxmlformats.org/officeDocument/2006/relationships/hyperlink" Target="http://www.wthreex.com/rup/portugues/process/itrwkfls/iwf_lit.htm" TargetMode="External"/><Relationship Id="rId7" Type="http://schemas.openxmlformats.org/officeDocument/2006/relationships/hyperlink" Target="http://www.wthreex.com/rup/portugues/process/itrwkfls/iwf_iii.htm" TargetMode="External"/><Relationship Id="rId8" Type="http://schemas.openxmlformats.org/officeDocument/2006/relationships/hyperlink" Target="http://www.wthreex.com/rup/portugues/process/itrwkfls/iwf_iie.htm" TargetMode="External"/><Relationship Id="rId9" Type="http://schemas.openxmlformats.org/officeDocument/2006/relationships/hyperlink" Target="http://www.wthreex.com/rup/portugues/process/itrwkfls/iwf_lic.htm" TargetMode="External"/><Relationship Id="rId10" Type="http://schemas.openxmlformats.org/officeDocument/2006/relationships/hyperlink" Target="http://www.wthreex.com/rup/portugues/process/workflow/manageme/co_phase.htm" TargetMode="External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threex.com/rup/portugues/process/itrwkfls/iwf_iwfs.htm" TargetMode="External"/><Relationship Id="rId2" Type="http://schemas.openxmlformats.org/officeDocument/2006/relationships/hyperlink" Target="http://www.wthreex.com/rup/portugues/process/itrwkfls/iwf_iwfs.htm" TargetMode="External"/><Relationship Id="rId3" Type="http://schemas.openxmlformats.org/officeDocument/2006/relationships/hyperlink" Target="http://www.wthreex.com/rup/portugues/process/itrwkfls/iwf_lit.htm" TargetMode="External"/><Relationship Id="rId4" Type="http://schemas.openxmlformats.org/officeDocument/2006/relationships/hyperlink" Target="http://www.wthreex.com/rup/portugues/process/itrwkfls/iwf_iii.htm" TargetMode="External"/><Relationship Id="rId5" Type="http://schemas.openxmlformats.org/officeDocument/2006/relationships/hyperlink" Target="http://www.wthreex.com/rup/portugues/process/itrwkfls/iwf_iie.htm" TargetMode="External"/><Relationship Id="rId6" Type="http://schemas.openxmlformats.org/officeDocument/2006/relationships/hyperlink" Target="http://www.wthreex.com/rup/portugues/process/itrwkfls/iwf_lic.htm" TargetMode="External"/><Relationship Id="rId7" Type="http://schemas.openxmlformats.org/officeDocument/2006/relationships/hyperlink" Target="http://www.wthreex.com/rup/portugues/process/workflow/manageme/co_phase.htm" TargetMode="External"/><Relationship Id="rId8" Type="http://schemas.openxmlformats.org/officeDocument/2006/relationships/hyperlink" Target="http://www.wthreex.com/rup/portugues/process/itrwkfls/iwf_iwfs.htm" TargetMode="External"/><Relationship Id="rId9" Type="http://schemas.openxmlformats.org/officeDocument/2006/relationships/hyperlink" Target="http://www.wthreex.com/rup/portugues/process/itrwkfls/iwf_lit.htm" TargetMode="External"/><Relationship Id="rId10" Type="http://schemas.openxmlformats.org/officeDocument/2006/relationships/hyperlink" Target="http://www.wthreex.com/rup/portugues/process/itrwkfls/iwf_iii.htm" TargetMode="External"/><Relationship Id="rId11" Type="http://schemas.openxmlformats.org/officeDocument/2006/relationships/hyperlink" Target="http://www.wthreex.com/rup/portugues/process/itrwkfls/iwf_iie.htm" TargetMode="External"/><Relationship Id="rId12" Type="http://schemas.openxmlformats.org/officeDocument/2006/relationships/hyperlink" Target="http://www.wthreex.com/rup/portugues/process/itrwkfls/iwf_lic.htm" TargetMode="External"/><Relationship Id="rId13" Type="http://schemas.openxmlformats.org/officeDocument/2006/relationships/hyperlink" Target="http://www.wthreex.com/rup/portugues/process/workflow/manageme/co_phase.htm" TargetMode="External"/><Relationship Id="rId14" Type="http://schemas.openxmlformats.org/officeDocument/2006/relationships/hyperlink" Target="http://www.wthreex.com/rup/portugues/process/itrwkfls/iwf_lit.htm" TargetMode="External"/><Relationship Id="rId15" Type="http://schemas.openxmlformats.org/officeDocument/2006/relationships/hyperlink" Target="http://www.wthreex.com/rup/portugues/process/itrwkfls/iwf_iii.htm" TargetMode="External"/><Relationship Id="rId16" Type="http://schemas.openxmlformats.org/officeDocument/2006/relationships/hyperlink" Target="http://www.wthreex.com/rup/portugues/process/itrwkfls/iwf_iie.htm" TargetMode="External"/><Relationship Id="rId17" Type="http://schemas.openxmlformats.org/officeDocument/2006/relationships/hyperlink" Target="http://www.wthreex.com/rup/portugues/process/itrwkfls/iwf_lic.htm" TargetMode="External"/><Relationship Id="rId18" Type="http://schemas.openxmlformats.org/officeDocument/2006/relationships/hyperlink" Target="http://www.wthreex.com/rup/portugues/process/workflow/manageme/co_phase.htm" TargetMode="External"/><Relationship Id="rId19" Type="http://schemas.openxmlformats.org/officeDocument/2006/relationships/image" Target="../media/image2.png"/><Relationship Id="rId20" Type="http://schemas.openxmlformats.org/officeDocument/2006/relationships/hyperlink" Target="http://www.wthreex.com/rup/portugues/process/workflow/ovu_busm.htm" TargetMode="External"/><Relationship Id="rId21" Type="http://schemas.openxmlformats.org/officeDocument/2006/relationships/image" Target="../media/image3.png"/><Relationship Id="rId22" Type="http://schemas.openxmlformats.org/officeDocument/2006/relationships/hyperlink" Target="http://www.wthreex.com/rup/portugues/process/workflow/ovu_req.htm" TargetMode="External"/><Relationship Id="rId23" Type="http://schemas.openxmlformats.org/officeDocument/2006/relationships/image" Target="../media/image4.png"/><Relationship Id="rId24" Type="http://schemas.openxmlformats.org/officeDocument/2006/relationships/hyperlink" Target="http://www.wthreex.com/rup/portugues/process/workflow/ovu_and.htm" TargetMode="External"/><Relationship Id="rId25" Type="http://schemas.openxmlformats.org/officeDocument/2006/relationships/image" Target="../media/image5.png"/><Relationship Id="rId26" Type="http://schemas.openxmlformats.org/officeDocument/2006/relationships/hyperlink" Target="http://www.wthreex.com/rup/portugues/process/workflow/ovu_impl.htm" TargetMode="External"/><Relationship Id="rId27" Type="http://schemas.openxmlformats.org/officeDocument/2006/relationships/image" Target="../media/image6.png"/><Relationship Id="rId28" Type="http://schemas.openxmlformats.org/officeDocument/2006/relationships/hyperlink" Target="http://www.wthreex.com/rup/portugues/process/workflow/ovu_test.htm" TargetMode="External"/><Relationship Id="rId29" Type="http://schemas.openxmlformats.org/officeDocument/2006/relationships/image" Target="../media/image7.png"/><Relationship Id="rId30" Type="http://schemas.openxmlformats.org/officeDocument/2006/relationships/hyperlink" Target="http://www.wthreex.com/rup/portugues/process/workflow/ovu_dep.htm" TargetMode="External"/><Relationship Id="rId31" Type="http://schemas.openxmlformats.org/officeDocument/2006/relationships/image" Target="../media/image8.png"/><Relationship Id="rId32" Type="http://schemas.openxmlformats.org/officeDocument/2006/relationships/hyperlink" Target="http://www.wthreex.com/rup/portugues/process/workflow/ovu_cm.htm" TargetMode="External"/><Relationship Id="rId33" Type="http://schemas.openxmlformats.org/officeDocument/2006/relationships/image" Target="../media/image9.png"/><Relationship Id="rId34" Type="http://schemas.openxmlformats.org/officeDocument/2006/relationships/hyperlink" Target="http://www.wthreex.com/rup/portugues/process/workflow/ovu_mgm.htm" TargetMode="External"/><Relationship Id="rId35" Type="http://schemas.openxmlformats.org/officeDocument/2006/relationships/image" Target="../media/image10.png"/><Relationship Id="rId36" Type="http://schemas.openxmlformats.org/officeDocument/2006/relationships/hyperlink" Target="http://www.wthreex.com/rup/portugues/process/workflow/ovu_env.htm" TargetMode="External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7640" y="4797000"/>
            <a:ext cx="68562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022"/>
                </a:solidFill>
                <a:latin typeface="Trebuchet MS"/>
              </a:rPr>
              <a:t>Valéria Maria Lauan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022"/>
                </a:solidFill>
                <a:latin typeface="Trebuchet MS"/>
              </a:rPr>
              <a:t>Março/20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" name="Picture 6" descr="rup_ps2"/>
          <p:cNvPicPr/>
          <p:nvPr/>
        </p:nvPicPr>
        <p:blipFill>
          <a:blip r:embed="rId1"/>
          <a:stretch/>
        </p:blipFill>
        <p:spPr>
          <a:xfrm>
            <a:off x="2627280" y="2708280"/>
            <a:ext cx="360036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EXEMPL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580000" y="112536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rte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79280" y="1125360"/>
            <a:ext cx="15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ap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79280" y="3213000"/>
            <a:ext cx="187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39640" y="1557360"/>
          <a:ext cx="2521080" cy="3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alista de si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39640" y="2060640"/>
          <a:ext cx="1511280" cy="39672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jet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39640" y="2637000"/>
          <a:ext cx="2521080" cy="3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jetista de te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84360" y="3724200"/>
          <a:ext cx="2808000" cy="39708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nejar uma ite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684360" y="4227480"/>
          <a:ext cx="3887640" cy="39708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contrar casos de uso e a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84360" y="4732200"/>
          <a:ext cx="2016000" cy="397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ver o pro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684360" y="5229360"/>
          <a:ext cx="4248000" cy="3967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ecutar um teste de 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940360" y="1628640"/>
          <a:ext cx="2735280" cy="39708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delo de caso de 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5940360" y="2133720"/>
          <a:ext cx="1944720" cy="3967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ódigo 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940360" y="2637000"/>
          <a:ext cx="1582920" cy="396720"/>
        </p:xfrm>
        <a:graphic>
          <a:graphicData uri="http://schemas.openxmlformats.org/drawingml/2006/table">
            <a:tbl>
              <a:tblPr/>
              <a:tblGrid>
                <a:gridCol w="1582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c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940360" y="3141720"/>
          <a:ext cx="1656000" cy="3967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ecutá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951520" y="4365720"/>
          <a:ext cx="2833560" cy="396720"/>
        </p:xfrm>
        <a:graphic>
          <a:graphicData uri="http://schemas.openxmlformats.org/drawingml/2006/table">
            <a:tbl>
              <a:tblPr/>
              <a:tblGrid>
                <a:gridCol w="283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grama de Seqü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940360" y="4941720"/>
          <a:ext cx="3095640" cy="4320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grama de colabo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sp>
        <p:nvSpPr>
          <p:cNvPr id="285" name="Rectangle 87"/>
          <p:cNvSpPr/>
          <p:nvPr/>
        </p:nvSpPr>
        <p:spPr>
          <a:xfrm>
            <a:off x="5651640" y="3716280"/>
            <a:ext cx="31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Fluxo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PAPÉIS E ATIVIDA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276720" y="448956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348000" y="233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32000" y="4562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916360" y="132228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916360" y="175428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5796000" y="233028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3348000" y="3144240"/>
            <a:ext cx="8282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0">
            <a:hlinkClick r:id="rId1"/>
          </p:cNvPr>
          <p:cNvSpPr/>
          <p:nvPr/>
        </p:nvSpPr>
        <p:spPr>
          <a:xfrm>
            <a:off x="7151760" y="1204920"/>
            <a:ext cx="333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5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9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1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5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7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9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1"/>
          <p:cNvSpPr/>
          <p:nvPr/>
        </p:nvSpPr>
        <p:spPr>
          <a:xfrm>
            <a:off x="2592360" y="39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0">
            <a:hlinkClick r:id="rId2"/>
          </p:cNvPr>
          <p:cNvSpPr/>
          <p:nvPr/>
        </p:nvSpPr>
        <p:spPr>
          <a:xfrm>
            <a:off x="7151760" y="1949400"/>
            <a:ext cx="1236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74"/>
          <p:cNvGrpSpPr/>
          <p:nvPr/>
        </p:nvGrpSpPr>
        <p:grpSpPr>
          <a:xfrm>
            <a:off x="7189920" y="5950080"/>
            <a:ext cx="3286080" cy="447120"/>
            <a:chOff x="7189920" y="5950080"/>
            <a:chExt cx="3286080" cy="447120"/>
          </a:xfrm>
        </p:grpSpPr>
        <p:sp>
          <p:nvSpPr>
            <p:cNvPr id="308" name="Rectangle 79">
              <a:hlinkClick r:id="rId3"/>
            </p:cNvPr>
            <p:cNvSpPr/>
            <p:nvPr/>
          </p:nvSpPr>
          <p:spPr>
            <a:xfrm>
              <a:off x="9847440" y="595944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8">
              <a:hlinkClick r:id="rId4"/>
            </p:cNvPr>
            <p:cNvSpPr/>
            <p:nvPr/>
          </p:nvSpPr>
          <p:spPr>
            <a:xfrm>
              <a:off x="7189920" y="5959440"/>
              <a:ext cx="5810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7"/>
            <p:cNvSpPr/>
            <p:nvPr/>
          </p:nvSpPr>
          <p:spPr>
            <a:xfrm>
              <a:off x="7780320" y="596916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6"/>
            <p:cNvSpPr/>
            <p:nvPr/>
          </p:nvSpPr>
          <p:spPr>
            <a:xfrm>
              <a:off x="8694720" y="5950080"/>
              <a:ext cx="1133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5"/>
            <p:cNvSpPr/>
            <p:nvPr/>
          </p:nvSpPr>
          <p:spPr>
            <a:xfrm>
              <a:off x="8237520" y="6254640"/>
              <a:ext cx="904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97"/>
          <p:cNvSpPr/>
          <p:nvPr/>
        </p:nvSpPr>
        <p:spPr>
          <a:xfrm>
            <a:off x="2592360" y="9968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1"/>
          <p:cNvSpPr/>
          <p:nvPr/>
        </p:nvSpPr>
        <p:spPr>
          <a:xfrm>
            <a:off x="259236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3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5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7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9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1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3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5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7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9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1"/>
          <p:cNvSpPr/>
          <p:nvPr/>
        </p:nvSpPr>
        <p:spPr>
          <a:xfrm>
            <a:off x="259236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9">
            <a:hlinkClick r:id="rId5"/>
          </p:cNvPr>
          <p:cNvSpPr/>
          <p:nvPr/>
        </p:nvSpPr>
        <p:spPr>
          <a:xfrm>
            <a:off x="7151760" y="1204920"/>
            <a:ext cx="333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43"/>
          <p:cNvGrpSpPr/>
          <p:nvPr/>
        </p:nvGrpSpPr>
        <p:grpSpPr>
          <a:xfrm>
            <a:off x="7189920" y="5205240"/>
            <a:ext cx="3286080" cy="447840"/>
            <a:chOff x="7189920" y="5205240"/>
            <a:chExt cx="3286080" cy="447840"/>
          </a:xfrm>
        </p:grpSpPr>
        <p:sp>
          <p:nvSpPr>
            <p:cNvPr id="327" name="Rectangle 148">
              <a:hlinkClick r:id="rId6"/>
            </p:cNvPr>
            <p:cNvSpPr/>
            <p:nvPr/>
          </p:nvSpPr>
          <p:spPr>
            <a:xfrm>
              <a:off x="9847440" y="521460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47">
              <a:hlinkClick r:id="rId7"/>
            </p:cNvPr>
            <p:cNvSpPr/>
            <p:nvPr/>
          </p:nvSpPr>
          <p:spPr>
            <a:xfrm>
              <a:off x="7189920" y="5214600"/>
              <a:ext cx="581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6">
              <a:hlinkClick r:id="rId8"/>
            </p:cNvPr>
            <p:cNvSpPr/>
            <p:nvPr/>
          </p:nvSpPr>
          <p:spPr>
            <a:xfrm>
              <a:off x="7780320" y="522432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5">
              <a:hlinkClick r:id="rId9"/>
            </p:cNvPr>
            <p:cNvSpPr/>
            <p:nvPr/>
          </p:nvSpPr>
          <p:spPr>
            <a:xfrm>
              <a:off x="8694720" y="5205240"/>
              <a:ext cx="11332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44">
              <a:hlinkClick r:id="rId10"/>
            </p:cNvPr>
            <p:cNvSpPr/>
            <p:nvPr/>
          </p:nvSpPr>
          <p:spPr>
            <a:xfrm>
              <a:off x="8237520" y="5510160"/>
              <a:ext cx="9046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160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2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4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8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0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2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4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76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8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0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85"/>
          <p:cNvSpPr/>
          <p:nvPr/>
        </p:nvSpPr>
        <p:spPr>
          <a:xfrm>
            <a:off x="327672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86"/>
          <p:cNvSpPr/>
          <p:nvPr/>
        </p:nvSpPr>
        <p:spPr>
          <a:xfrm>
            <a:off x="25923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8"/>
          <p:cNvSpPr/>
          <p:nvPr/>
        </p:nvSpPr>
        <p:spPr>
          <a:xfrm>
            <a:off x="3492360" y="276228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2"/>
          <p:cNvSpPr/>
          <p:nvPr/>
        </p:nvSpPr>
        <p:spPr>
          <a:xfrm>
            <a:off x="259236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3"/>
          <p:cNvSpPr/>
          <p:nvPr/>
        </p:nvSpPr>
        <p:spPr>
          <a:xfrm>
            <a:off x="259236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6"/>
          <p:cNvSpPr/>
          <p:nvPr/>
        </p:nvSpPr>
        <p:spPr>
          <a:xfrm>
            <a:off x="2592360" y="-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07"/>
          <p:cNvSpPr/>
          <p:nvPr/>
        </p:nvSpPr>
        <p:spPr>
          <a:xfrm>
            <a:off x="-18108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08"/>
          <p:cNvSpPr/>
          <p:nvPr/>
        </p:nvSpPr>
        <p:spPr>
          <a:xfrm>
            <a:off x="259236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11"/>
          <p:cNvSpPr/>
          <p:nvPr/>
        </p:nvSpPr>
        <p:spPr>
          <a:xfrm>
            <a:off x="259236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13"/>
          <p:cNvSpPr/>
          <p:nvPr/>
        </p:nvSpPr>
        <p:spPr>
          <a:xfrm>
            <a:off x="25923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27"/>
          <p:cNvSpPr/>
          <p:nvPr/>
        </p:nvSpPr>
        <p:spPr>
          <a:xfrm>
            <a:off x="2592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28"/>
          <p:cNvSpPr/>
          <p:nvPr/>
        </p:nvSpPr>
        <p:spPr>
          <a:xfrm>
            <a:off x="2592360" y="2376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9"/>
          <p:cNvSpPr/>
          <p:nvPr/>
        </p:nvSpPr>
        <p:spPr>
          <a:xfrm>
            <a:off x="25923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0"/>
          <p:cNvSpPr/>
          <p:nvPr/>
        </p:nvSpPr>
        <p:spPr>
          <a:xfrm>
            <a:off x="259236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31"/>
          <p:cNvSpPr/>
          <p:nvPr/>
        </p:nvSpPr>
        <p:spPr>
          <a:xfrm>
            <a:off x="25923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32"/>
          <p:cNvSpPr/>
          <p:nvPr/>
        </p:nvSpPr>
        <p:spPr>
          <a:xfrm>
            <a:off x="25923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33"/>
          <p:cNvSpPr/>
          <p:nvPr/>
        </p:nvSpPr>
        <p:spPr>
          <a:xfrm>
            <a:off x="262728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4"/>
          <p:cNvSpPr/>
          <p:nvPr/>
        </p:nvSpPr>
        <p:spPr>
          <a:xfrm>
            <a:off x="259236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5"/>
          <p:cNvSpPr/>
          <p:nvPr/>
        </p:nvSpPr>
        <p:spPr>
          <a:xfrm>
            <a:off x="259236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36"/>
          <p:cNvSpPr/>
          <p:nvPr/>
        </p:nvSpPr>
        <p:spPr>
          <a:xfrm>
            <a:off x="2592360" y="41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63" descr="worker"/>
          <p:cNvPicPr/>
          <p:nvPr/>
        </p:nvPicPr>
        <p:blipFill>
          <a:blip r:embed="rId11"/>
          <a:stretch/>
        </p:blipFill>
        <p:spPr>
          <a:xfrm>
            <a:off x="1908000" y="1773360"/>
            <a:ext cx="47516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CONCEPÇÃO E WORK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6836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24000" y="177336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79280" y="1208520"/>
            <a:ext cx="88567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apturar os requisitos mais críticos (na forma de casos de uso) e definir o escop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alisar os requisitos e montar uma proposta para o modelo de classes e objetos, com foco nas classes de negócio, mais o gloss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reparar o Modelo de Design ou storyboar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resentando um rascunho preliminar da arquitetura do sistema: identificar os primeiros componentes, interface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bsistemas, assim como o Modelo de Impla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ode ser necessário criar um protótipo descartável para demonstrar o caminho escolh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riar primeiros esboços de teste com base nas informações já adquir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87822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ELABORAÇÃO E WORK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8000" y="1125360"/>
            <a:ext cx="88567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encontrar, priorizar, detalhar e estruturar os Casos de Uso, obtendo aproximadamente 80% dos requis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detalhar as classes de negócio, fazer o particionamento em pacotes, atualizar o glossário e refinar os Casos de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fazer o design dos Casos de Uso, classes e subsistemas para estabelecer uma estrutura básica do sistema. Pacotes de análise e subsistemas de design, são importantes. São considerados: sistema operacional, linguagem, banco de dados, distribuição de objetos, etc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implementar e testar os componentes arquiteturalmente significantes. Eventualmente criar protótipos para testar alguma nova tecnolo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planejar e especificar os testes, definindo casos de teste e rotinas de tes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24000" y="3307680"/>
            <a:ext cx="8281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CONSTRUÇÃO E WORK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capturar os requisitos remanescentes, refinando Casos de Uso e cenári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capturar algum detalhe que passou despercebido nas classes pertinentes ao negóci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refinar os casos de uso e cenários remanescentes com base na tecnologia utiliza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codificar e integrar componentes, priorizando os casos de uso mais importan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testar funcionalidades e performance do sistema. Se necessário testar novos casos e rotinas de tes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TRANSIÇÃO E WORKS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061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a documentação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modelo de análise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modelo de design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código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modelo de teste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8400"/>
            <a:ext cx="92152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CONCLUS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1125360"/>
            <a:ext cx="83487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 a utilização de uma metodologia de desenvolvimento de software como o RUP, é possível obt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lidade de softwar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dutividade no desenvolvimento, operação e manutenção de softwar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trole sobre desenvolvimento dentro de custos, prazos e níveis de qualidade desejado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imativa de prazos e custos com maior precisã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24000" y="177336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324000" y="3307680"/>
            <a:ext cx="8281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REFER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Sites na interne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http://javafree.uol.com.br/artigo/871455/Obtendo-Qualidade-de-Software-com-o-RUP.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http://www.wthreex.com/rup/portugues/index.ht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Publicações sobre o assunt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postila de RUP, disponível em: http://www.analisetotal.com.br/Material/RUP/AulaRUP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rocesso Unificado RUP.pdf, disponível em: http://www.laps.ufpa.br/yomara/paginav2/aps/processo%20unificado%20rup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rebuchet MS"/>
              </a:rPr>
              <a:t>SUMÁ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DEFINIÇ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OBJETIV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PRINCIPAIS CARACTERÍSTICA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FASES DO CICLO DE VID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ARQUITETURA DO RU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CONCLUS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REFERÊNCIA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785080" cy="47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O RUP(Rational Unified Process) é um processo de desenvolvimento de software que possui um conjunto completo de atividades que define quem faz o que, quando e como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Ele usa uma abordagem de orientação  a objetos em sua concepção e é projetado e documentado utilizando a notação UML para ilustrar os processos em ação.</a:t>
            </a: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Suas características principais: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Trebuchet MS"/>
              </a:rPr>
              <a:t>Iterativo</a:t>
            </a: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 e I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Trebuchet MS"/>
              </a:rPr>
              <a:t>ncrementa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Inicialmente desenvolvido e comercializado pela Rational, e desde 2003 pertence a IBM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spcBef>
                <a:spcPts val="15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O objetivo do RUP é assegurar uma produção de alta qualidade de software, que realiza a necessidade do usuário seguindo prazos e orçament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920" y="1125000"/>
            <a:ext cx="871380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Iterativo e Incremen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 RUP utiliza pequenos ciclos de projeto (mini-projetos) que correspondem à uma iteração e que resultam em um incremento no software. Iterações referem-se a passos e incrementos à evolução do produ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 UP repete vários ciclos de vida até o término d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ada ciclo de vida possui 4(quatro) fas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ncepçã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laboraçã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nstrução 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ransiçã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PRINCIPAIS CARACTERÍST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49640" y="3424320"/>
            <a:ext cx="3921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2349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Concep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efine o objetivo do projeto e sua viabilida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Elabora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Plano do Projeto, especificação de características e definição da linha de base da arquitetu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Constru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onstrução do produ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Transi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ubstituição do antigo sistema e implant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FASES DO CICLO DE 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55640" y="170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11280" y="400536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126828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ep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labora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tru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ns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cxnSp>
        <p:nvCxnSpPr>
          <p:cNvPr id="108" name="Conector angulado 12"/>
          <p:cNvCxnSpPr/>
          <p:nvPr/>
        </p:nvCxnSpPr>
        <p:spPr>
          <a:xfrm>
            <a:off x="971640" y="1773360"/>
            <a:ext cx="5929920" cy="2160"/>
          </a:xfrm>
          <a:prstGeom prst="bentConnector3">
            <a:avLst>
              <a:gd name="adj1" fmla="val 49996"/>
            </a:avLst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9" name="CaixaDeTexto 15"/>
          <p:cNvSpPr/>
          <p:nvPr/>
        </p:nvSpPr>
        <p:spPr>
          <a:xfrm>
            <a:off x="611280" y="1844640"/>
            <a:ext cx="128592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rebuchet MS"/>
              </a:rPr>
              <a:t>t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16"/>
          <p:cNvSpPr/>
          <p:nvPr/>
        </p:nvSpPr>
        <p:spPr>
          <a:xfrm>
            <a:off x="395280" y="2276640"/>
            <a:ext cx="184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ARQUITETURA DO R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4360" y="522936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70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24000" y="177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884240" y="448956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955880" y="233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739880" y="4562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23880" y="132228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47640" y="1628640"/>
            <a:ext cx="82090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403880" y="233028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955880" y="3144240"/>
            <a:ext cx="8281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>
            <a:hlinkClick r:id="rId1"/>
          </p:cNvPr>
          <p:cNvSpPr/>
          <p:nvPr/>
        </p:nvSpPr>
        <p:spPr>
          <a:xfrm>
            <a:off x="5759280" y="1204920"/>
            <a:ext cx="3333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1200240" y="39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0">
            <a:hlinkClick r:id="rId2"/>
          </p:cNvPr>
          <p:cNvSpPr/>
          <p:nvPr/>
        </p:nvSpPr>
        <p:spPr>
          <a:xfrm>
            <a:off x="5759280" y="1949400"/>
            <a:ext cx="3333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1"/>
          <p:cNvGrpSpPr/>
          <p:nvPr/>
        </p:nvGrpSpPr>
        <p:grpSpPr>
          <a:xfrm>
            <a:off x="5797440" y="5950080"/>
            <a:ext cx="3286080" cy="447120"/>
            <a:chOff x="5797440" y="5950080"/>
            <a:chExt cx="3286080" cy="447120"/>
          </a:xfrm>
        </p:grpSpPr>
        <p:sp>
          <p:nvSpPr>
            <p:cNvPr id="139" name="Rectangle 42">
              <a:hlinkClick r:id="rId3"/>
            </p:cNvPr>
            <p:cNvSpPr/>
            <p:nvPr/>
          </p:nvSpPr>
          <p:spPr>
            <a:xfrm>
              <a:off x="8454960" y="595944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">
              <a:hlinkClick r:id="rId4"/>
            </p:cNvPr>
            <p:cNvSpPr/>
            <p:nvPr/>
          </p:nvSpPr>
          <p:spPr>
            <a:xfrm>
              <a:off x="5797440" y="5959440"/>
              <a:ext cx="5810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4">
              <a:hlinkClick r:id="rId5"/>
            </p:cNvPr>
            <p:cNvSpPr/>
            <p:nvPr/>
          </p:nvSpPr>
          <p:spPr>
            <a:xfrm>
              <a:off x="6387840" y="596916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5">
              <a:hlinkClick r:id="rId6"/>
            </p:cNvPr>
            <p:cNvSpPr/>
            <p:nvPr/>
          </p:nvSpPr>
          <p:spPr>
            <a:xfrm>
              <a:off x="7302240" y="5950080"/>
              <a:ext cx="1133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6">
              <a:hlinkClick r:id="rId7"/>
            </p:cNvPr>
            <p:cNvSpPr/>
            <p:nvPr/>
          </p:nvSpPr>
          <p:spPr>
            <a:xfrm>
              <a:off x="6845040" y="6254640"/>
              <a:ext cx="904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47"/>
          <p:cNvSpPr/>
          <p:nvPr/>
        </p:nvSpPr>
        <p:spPr>
          <a:xfrm>
            <a:off x="1200240" y="9968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120024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2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3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4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5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6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7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8"/>
          <p:cNvSpPr/>
          <p:nvPr/>
        </p:nvSpPr>
        <p:spPr>
          <a:xfrm>
            <a:off x="120024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9">
            <a:hlinkClick r:id="rId8"/>
          </p:cNvPr>
          <p:cNvSpPr/>
          <p:nvPr/>
        </p:nvSpPr>
        <p:spPr>
          <a:xfrm>
            <a:off x="5759280" y="1204920"/>
            <a:ext cx="3333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0"/>
          <p:cNvGrpSpPr/>
          <p:nvPr/>
        </p:nvGrpSpPr>
        <p:grpSpPr>
          <a:xfrm>
            <a:off x="5797440" y="5205240"/>
            <a:ext cx="3286080" cy="447840"/>
            <a:chOff x="5797440" y="5205240"/>
            <a:chExt cx="3286080" cy="447840"/>
          </a:xfrm>
        </p:grpSpPr>
        <p:sp>
          <p:nvSpPr>
            <p:cNvPr id="158" name="Rectangle 61">
              <a:hlinkClick r:id="rId9"/>
            </p:cNvPr>
            <p:cNvSpPr/>
            <p:nvPr/>
          </p:nvSpPr>
          <p:spPr>
            <a:xfrm>
              <a:off x="8454960" y="521460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2">
              <a:hlinkClick r:id="rId10"/>
            </p:cNvPr>
            <p:cNvSpPr/>
            <p:nvPr/>
          </p:nvSpPr>
          <p:spPr>
            <a:xfrm>
              <a:off x="5797440" y="5214600"/>
              <a:ext cx="581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3">
              <a:hlinkClick r:id="rId11"/>
            </p:cNvPr>
            <p:cNvSpPr/>
            <p:nvPr/>
          </p:nvSpPr>
          <p:spPr>
            <a:xfrm>
              <a:off x="6387840" y="522432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4">
              <a:hlinkClick r:id="rId12"/>
            </p:cNvPr>
            <p:cNvSpPr/>
            <p:nvPr/>
          </p:nvSpPr>
          <p:spPr>
            <a:xfrm>
              <a:off x="7302240" y="5205240"/>
              <a:ext cx="11332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5">
              <a:hlinkClick r:id="rId13"/>
            </p:cNvPr>
            <p:cNvSpPr/>
            <p:nvPr/>
          </p:nvSpPr>
          <p:spPr>
            <a:xfrm>
              <a:off x="6845040" y="5510160"/>
              <a:ext cx="9046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6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7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8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1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2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3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4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5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6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7"/>
          <p:cNvSpPr/>
          <p:nvPr/>
        </p:nvSpPr>
        <p:spPr>
          <a:xfrm>
            <a:off x="188424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8"/>
          <p:cNvSpPr/>
          <p:nvPr/>
        </p:nvSpPr>
        <p:spPr>
          <a:xfrm>
            <a:off x="12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9"/>
          <p:cNvSpPr/>
          <p:nvPr/>
        </p:nvSpPr>
        <p:spPr>
          <a:xfrm>
            <a:off x="2100240" y="276228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0"/>
          <p:cNvSpPr/>
          <p:nvPr/>
        </p:nvSpPr>
        <p:spPr>
          <a:xfrm>
            <a:off x="947880" y="2905200"/>
            <a:ext cx="5903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120024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2"/>
          <p:cNvSpPr/>
          <p:nvPr/>
        </p:nvSpPr>
        <p:spPr>
          <a:xfrm>
            <a:off x="120024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3"/>
          <p:cNvSpPr/>
          <p:nvPr/>
        </p:nvSpPr>
        <p:spPr>
          <a:xfrm>
            <a:off x="1200240" y="-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5"/>
          <p:cNvSpPr/>
          <p:nvPr/>
        </p:nvSpPr>
        <p:spPr>
          <a:xfrm>
            <a:off x="120024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6"/>
          <p:cNvSpPr/>
          <p:nvPr/>
        </p:nvSpPr>
        <p:spPr>
          <a:xfrm>
            <a:off x="12002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7"/>
          <p:cNvSpPr/>
          <p:nvPr/>
        </p:nvSpPr>
        <p:spPr>
          <a:xfrm>
            <a:off x="120024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8"/>
          <p:cNvSpPr/>
          <p:nvPr/>
        </p:nvSpPr>
        <p:spPr>
          <a:xfrm>
            <a:off x="12002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10"/>
          <p:cNvGrpSpPr/>
          <p:nvPr/>
        </p:nvGrpSpPr>
        <p:grpSpPr>
          <a:xfrm>
            <a:off x="1258920" y="1557360"/>
            <a:ext cx="5398920" cy="3311280"/>
            <a:chOff x="1258920" y="1557360"/>
            <a:chExt cx="5398920" cy="3311280"/>
          </a:xfrm>
        </p:grpSpPr>
        <p:grpSp>
          <p:nvGrpSpPr>
            <p:cNvPr id="186" name="Group 23"/>
            <p:cNvGrpSpPr/>
            <p:nvPr/>
          </p:nvGrpSpPr>
          <p:grpSpPr>
            <a:xfrm>
              <a:off x="3022560" y="3833640"/>
              <a:ext cx="3286080" cy="447840"/>
              <a:chOff x="3022560" y="3833640"/>
              <a:chExt cx="3286080" cy="447840"/>
            </a:xfrm>
          </p:grpSpPr>
          <p:sp>
            <p:nvSpPr>
              <p:cNvPr id="187" name="Rectangle 24">
                <a:hlinkClick r:id="rId14"/>
              </p:cNvPr>
              <p:cNvSpPr/>
              <p:nvPr/>
            </p:nvSpPr>
            <p:spPr>
              <a:xfrm>
                <a:off x="5680080" y="3843000"/>
                <a:ext cx="62856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5">
                <a:hlinkClick r:id="rId15"/>
              </p:cNvPr>
              <p:cNvSpPr/>
              <p:nvPr/>
            </p:nvSpPr>
            <p:spPr>
              <a:xfrm>
                <a:off x="3022560" y="3843000"/>
                <a:ext cx="5810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26">
                <a:hlinkClick r:id="rId16"/>
              </p:cNvPr>
              <p:cNvSpPr/>
              <p:nvPr/>
            </p:nvSpPr>
            <p:spPr>
              <a:xfrm>
                <a:off x="3612960" y="3852720"/>
                <a:ext cx="90468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7">
                <a:hlinkClick r:id="rId17"/>
              </p:cNvPr>
              <p:cNvSpPr/>
              <p:nvPr/>
            </p:nvSpPr>
            <p:spPr>
              <a:xfrm>
                <a:off x="4527360" y="3833640"/>
                <a:ext cx="113328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28">
                <a:hlinkClick r:id="rId18"/>
              </p:cNvPr>
              <p:cNvSpPr/>
              <p:nvPr/>
            </p:nvSpPr>
            <p:spPr>
              <a:xfrm>
                <a:off x="4070160" y="4138560"/>
                <a:ext cx="90468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89" descr="Clique em um botão para ver informações sobre Iterações e fases."/>
            <p:cNvPicPr/>
            <p:nvPr/>
          </p:nvPicPr>
          <p:blipFill>
            <a:blip r:embed="rId19"/>
            <a:stretch/>
          </p:blipFill>
          <p:spPr>
            <a:xfrm>
              <a:off x="1258920" y="1557360"/>
              <a:ext cx="53989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0" descr="Clique aqui para obter informações sobre como entender e captar processos de negócios.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1258920" y="2079360"/>
              <a:ext cx="539892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1" descr="Clique aqui para obter informações sobre como entender, captar e gerenciar necessidades do usuário.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1258920" y="2279520"/>
              <a:ext cx="539892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2" descr="Clique aqui para obter informações sobre como transformar requisitos em designs de software.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1258920" y="2489040"/>
              <a:ext cx="53989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93" descr="Clique aqui para obter informações sobre como implementar software.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1258920" y="2736720"/>
              <a:ext cx="539892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4" descr="Clique aqui para obter informações sobre como testar aplicativos.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1258920" y="3031920"/>
              <a:ext cx="53989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95" descr="Clique aqui para obter informações sobre como implantar um aplicativo na respectiva comunidade de usuários.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1258920" y="3184560"/>
              <a:ext cx="5398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96" descr="Clique aqui para obter informações sobre o gerenciamento de configuração e mudança.">
              <a:hlinkClick r:id="rId32"/>
            </p:cNvPr>
            <p:cNvPicPr/>
            <p:nvPr/>
          </p:nvPicPr>
          <p:blipFill>
            <a:blip r:embed="rId33"/>
            <a:stretch/>
          </p:blipFill>
          <p:spPr>
            <a:xfrm>
              <a:off x="1258920" y="3375000"/>
              <a:ext cx="539892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97" descr="Clique aqui para obter informações sobre como gerenciar riscos, características, programações e recursos.">
              <a:hlinkClick r:id="rId34"/>
            </p:cNvPr>
            <p:cNvPicPr/>
            <p:nvPr/>
          </p:nvPicPr>
          <p:blipFill>
            <a:blip r:embed="rId35"/>
            <a:stretch/>
          </p:blipFill>
          <p:spPr>
            <a:xfrm>
              <a:off x="1258920" y="3822480"/>
              <a:ext cx="53989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98" descr="Clique aqui para obter informações sobre a configuração do Processo.">
              <a:hlinkClick r:id="rId36"/>
            </p:cNvPr>
            <p:cNvPicPr/>
            <p:nvPr/>
          </p:nvPicPr>
          <p:blipFill>
            <a:blip r:embed="rId37"/>
            <a:stretch/>
          </p:blipFill>
          <p:spPr>
            <a:xfrm>
              <a:off x="1258920" y="3993840"/>
              <a:ext cx="53989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99" descr="Clique em um botão para ver informações sobre iterações e fluxos de trabalho de iterações representativas."/>
            <p:cNvPicPr/>
            <p:nvPr/>
          </p:nvPicPr>
          <p:blipFill>
            <a:blip r:embed="rId38"/>
            <a:stretch/>
          </p:blipFill>
          <p:spPr>
            <a:xfrm>
              <a:off x="1258920" y="4194000"/>
              <a:ext cx="539892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00"/>
          <p:cNvSpPr/>
          <p:nvPr/>
        </p:nvSpPr>
        <p:spPr>
          <a:xfrm>
            <a:off x="120024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1"/>
          <p:cNvSpPr/>
          <p:nvPr/>
        </p:nvSpPr>
        <p:spPr>
          <a:xfrm>
            <a:off x="12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2"/>
          <p:cNvSpPr/>
          <p:nvPr/>
        </p:nvSpPr>
        <p:spPr>
          <a:xfrm>
            <a:off x="120024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"/>
          <p:cNvSpPr/>
          <p:nvPr/>
        </p:nvSpPr>
        <p:spPr>
          <a:xfrm>
            <a:off x="12002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4"/>
          <p:cNvSpPr/>
          <p:nvPr/>
        </p:nvSpPr>
        <p:spPr>
          <a:xfrm>
            <a:off x="120024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5"/>
          <p:cNvSpPr/>
          <p:nvPr/>
        </p:nvSpPr>
        <p:spPr>
          <a:xfrm>
            <a:off x="120024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6"/>
          <p:cNvSpPr/>
          <p:nvPr/>
        </p:nvSpPr>
        <p:spPr>
          <a:xfrm>
            <a:off x="1200240" y="34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7"/>
          <p:cNvSpPr/>
          <p:nvPr/>
        </p:nvSpPr>
        <p:spPr>
          <a:xfrm>
            <a:off x="1200240" y="3633840"/>
            <a:ext cx="5398920" cy="10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8"/>
          <p:cNvSpPr/>
          <p:nvPr/>
        </p:nvSpPr>
        <p:spPr>
          <a:xfrm>
            <a:off x="1200240" y="4195800"/>
            <a:ext cx="5398920" cy="10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9"/>
          <p:cNvSpPr/>
          <p:nvPr/>
        </p:nvSpPr>
        <p:spPr>
          <a:xfrm>
            <a:off x="1200240" y="4329000"/>
            <a:ext cx="5398920" cy="10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MODELOS E DISCIP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411280" y="1527120"/>
            <a:ext cx="8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340000" y="15271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85840" y="1357200"/>
            <a:ext cx="846288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ject 8" descr=""/>
          <p:cNvPicPr/>
          <p:nvPr/>
        </p:nvPicPr>
        <p:blipFill>
          <a:blip r:embed="rId1"/>
          <a:stretch/>
        </p:blipFill>
        <p:spPr>
          <a:xfrm>
            <a:off x="1509840" y="1352520"/>
            <a:ext cx="6124320" cy="409248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0" descr=""/>
          <p:cNvPicPr/>
          <p:nvPr/>
        </p:nvPicPr>
        <p:blipFill>
          <a:blip r:embed="rId2"/>
          <a:stretch/>
        </p:blipFill>
        <p:spPr>
          <a:xfrm>
            <a:off x="1547640" y="1208160"/>
            <a:ext cx="6777360" cy="4092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8"/>
          <p:cNvSpPr/>
          <p:nvPr/>
        </p:nvSpPr>
        <p:spPr>
          <a:xfrm>
            <a:off x="755640" y="1527120"/>
            <a:ext cx="1608120" cy="432000"/>
          </a:xfrm>
          <a:prstGeom prst="rect">
            <a:avLst/>
          </a:prstGeom>
          <a:solidFill>
            <a:srgbClr val="fea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755640" y="15271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2363760" y="15271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755640" y="152712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55640" y="195912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755640" y="2246400"/>
            <a:ext cx="1608120" cy="431640"/>
          </a:xfrm>
          <a:prstGeom prst="rect">
            <a:avLst/>
          </a:prstGeom>
          <a:solidFill>
            <a:srgbClr val="fea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Aná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755640" y="22464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>
            <a:off x="2363760" y="22464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>
            <a:off x="755640" y="224640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755640" y="267804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755640" y="2967120"/>
            <a:ext cx="1584360" cy="433440"/>
          </a:xfrm>
          <a:prstGeom prst="rect">
            <a:avLst/>
          </a:prstGeom>
          <a:solidFill>
            <a:srgbClr val="fea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755640" y="296712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2340000" y="296712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755640" y="29671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4"/>
          <p:cNvSpPr/>
          <p:nvPr/>
        </p:nvSpPr>
        <p:spPr>
          <a:xfrm>
            <a:off x="755640" y="34005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4"/>
          <p:cNvGrpSpPr/>
          <p:nvPr/>
        </p:nvGrpSpPr>
        <p:grpSpPr>
          <a:xfrm>
            <a:off x="755640" y="3614760"/>
            <a:ext cx="1584360" cy="433440"/>
            <a:chOff x="755640" y="3614760"/>
            <a:chExt cx="1584360" cy="433440"/>
          </a:xfrm>
        </p:grpSpPr>
        <p:sp>
          <p:nvSpPr>
            <p:cNvPr id="237" name="Rectangle 36"/>
            <p:cNvSpPr/>
            <p:nvPr/>
          </p:nvSpPr>
          <p:spPr>
            <a:xfrm>
              <a:off x="755640" y="3614760"/>
              <a:ext cx="1584360" cy="433440"/>
            </a:xfrm>
            <a:prstGeom prst="rect">
              <a:avLst/>
            </a:prstGeom>
            <a:solidFill>
              <a:srgbClr val="fea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rebuchet MS"/>
                </a:rPr>
                <a:t>Implemen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7"/>
            <p:cNvSpPr/>
            <p:nvPr/>
          </p:nvSpPr>
          <p:spPr>
            <a:xfrm>
              <a:off x="755640" y="3614760"/>
              <a:ext cx="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8"/>
            <p:cNvSpPr/>
            <p:nvPr/>
          </p:nvSpPr>
          <p:spPr>
            <a:xfrm>
              <a:off x="2340000" y="3614760"/>
              <a:ext cx="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9"/>
            <p:cNvSpPr/>
            <p:nvPr/>
          </p:nvSpPr>
          <p:spPr>
            <a:xfrm>
              <a:off x="755640" y="361476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0"/>
            <p:cNvSpPr/>
            <p:nvPr/>
          </p:nvSpPr>
          <p:spPr>
            <a:xfrm>
              <a:off x="755640" y="40482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53"/>
          <p:cNvGrpSpPr/>
          <p:nvPr/>
        </p:nvGrpSpPr>
        <p:grpSpPr>
          <a:xfrm>
            <a:off x="755640" y="4335480"/>
            <a:ext cx="1584360" cy="431640"/>
            <a:chOff x="755640" y="4335480"/>
            <a:chExt cx="1584360" cy="431640"/>
          </a:xfrm>
        </p:grpSpPr>
        <p:sp>
          <p:nvSpPr>
            <p:cNvPr id="243" name="Rectangle 42"/>
            <p:cNvSpPr/>
            <p:nvPr/>
          </p:nvSpPr>
          <p:spPr>
            <a:xfrm>
              <a:off x="755640" y="4335480"/>
              <a:ext cx="1584360" cy="431640"/>
            </a:xfrm>
            <a:prstGeom prst="rect">
              <a:avLst/>
            </a:prstGeom>
            <a:solidFill>
              <a:srgbClr val="fea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rebuchet MS"/>
                </a:rPr>
                <a:t>Te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3"/>
            <p:cNvSpPr/>
            <p:nvPr/>
          </p:nvSpPr>
          <p:spPr>
            <a:xfrm>
              <a:off x="755640" y="43354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>
              <a:off x="2340000" y="43354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5"/>
            <p:cNvSpPr/>
            <p:nvPr/>
          </p:nvSpPr>
          <p:spPr>
            <a:xfrm>
              <a:off x="755640" y="433548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6"/>
            <p:cNvSpPr/>
            <p:nvPr/>
          </p:nvSpPr>
          <p:spPr>
            <a:xfrm>
              <a:off x="755640" y="476712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60"/>
          <p:cNvSpPr/>
          <p:nvPr/>
        </p:nvSpPr>
        <p:spPr>
          <a:xfrm>
            <a:off x="2387520" y="24620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>
            <a:off x="2411280" y="17431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2"/>
          <p:cNvSpPr/>
          <p:nvPr/>
        </p:nvSpPr>
        <p:spPr>
          <a:xfrm>
            <a:off x="2340000" y="31827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3"/>
          <p:cNvSpPr/>
          <p:nvPr/>
        </p:nvSpPr>
        <p:spPr>
          <a:xfrm>
            <a:off x="2340000" y="38307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4"/>
          <p:cNvSpPr/>
          <p:nvPr/>
        </p:nvSpPr>
        <p:spPr>
          <a:xfrm>
            <a:off x="2340000" y="4551480"/>
            <a:ext cx="44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ESTRUTURA ESTÁ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112536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 parte estática do RUP, é descrita através dos conceitos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papéi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atividade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artefat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fluxos de trabalho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pt-BR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24000" y="3108240"/>
            <a:ext cx="82818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24000" y="2205000"/>
          <a:ext cx="1008000" cy="44784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PÉ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141720"/>
          <a:ext cx="1512720" cy="44748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24000" y="4221000"/>
          <a:ext cx="1512720" cy="43200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TEF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24000" y="5229360"/>
          <a:ext cx="2687400" cy="447480"/>
        </p:xfrm>
        <a:graphic>
          <a:graphicData uri="http://schemas.openxmlformats.org/drawingml/2006/table">
            <a:tbl>
              <a:tblPr/>
              <a:tblGrid>
                <a:gridCol w="268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UXO DE TRABAL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34"/>
          <p:cNvSpPr/>
          <p:nvPr/>
        </p:nvSpPr>
        <p:spPr>
          <a:xfrm>
            <a:off x="1403280" y="20606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 o comportamento e as responsabilidades assumidas por uma pessoa ou um conjunto de pessoas trabalhando em equi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1895400" y="2997360"/>
            <a:ext cx="670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efa que um indivíduo executa quando está exercendo um determinado papel e produz um resultado importante para o contexto do proje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3060720" y="5084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seqüências de atividades que são executadas para a produção de um resultado valioso para o pro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1908000" y="4149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edaço de informação que é produzido, modificado ou utilizado em um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13:55Z</dcterms:created>
  <dc:creator>monteiar</dc:creator>
  <dc:description/>
  <dc:language>en-US</dc:language>
  <cp:lastModifiedBy>sdas dsad</cp:lastModifiedBy>
  <dcterms:modified xsi:type="dcterms:W3CDTF">2017-04-11T21:20:23Z</dcterms:modified>
  <cp:revision>479</cp:revision>
  <dc:subject/>
  <dc:title> reuni </dc:title>
</cp:coreProperties>
</file>